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670675" cy="9925050"/>
</p:presentation>
</file>

<file path=ppt/commentAuthors.xml><?xml version="1.0" encoding="utf-8"?>
<p:cmAuthorLst xmlns:p="http://schemas.openxmlformats.org/presentationml/2006/main">
  <p:cmAuthor id="0" name="steinmetzp" initials="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7-10T15:22:44.281000000" idx="1">
    <p:pos x="10" y="10"/>
    <p:text>une autonomie "relative, un exercice contraint</p:text>
  </p:cm>
</p:cmLst>
</file>

<file path=ppt/comments/comment4.xml><?xml version="1.0" encoding="utf-8"?>
<p:cmLst xmlns:p="http://schemas.openxmlformats.org/presentationml/2006/main">
  <p:cm authorId="0" dt="2011-07-10T15:22:44.281000000" idx="2">
    <p:pos x="10" y="10"/>
    <p:text>une autonomie "relative, un exercice contrai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1B9-0CF8-450D-AD4C-374264BE33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07C8-9E4A-4148-9653-F138FAF772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5E8A-F75E-48BF-83D9-58FD4EF2FF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50E-D181-4354-AA15-9A2A7D3A38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3D2-9839-4CA4-94D2-3BDCC05AA4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78D-7AD0-4B03-B648-8994A4300C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862-84FE-4350-AFEF-D2568019B3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6EC-B5FF-4DC3-815A-1A463A214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0B03-A918-4FC8-B935-F265ABD7ED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E623-999F-443B-BB2B-ACAFBAEBA4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s are targeted were specific French expertise can be promoted or/and where France feels that there is a priority and it is still to be promoted within the international commun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A76-1BDC-4883-B565-3AECE9EC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E8D-77FE-4182-AD88-2B0D5AC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C74-24F0-4418-8C21-8FF0F8F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8E3-81D4-4522-855E-A872C967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4357-AE37-4EE9-9985-CDFF4AFB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5ADA-1052-46D6-9EB7-709AD745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6C1-13CF-4870-BA36-EC30FBC9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321-AAEB-41B4-9551-1CFA7BA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F72C-6287-438C-8053-011331B5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136-2D48-458A-B114-3C777A24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001-BB16-4A5F-BA2B-3ECE54A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F94-9AA9-4B25-881E-FBA5047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0D40-B77B-469D-8500-23E386F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6CEA-70D8-455A-AEBE-5F95334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DB72-103B-4F8D-918F-5CF9A3AF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89DF-3AD3-4D13-A944-4F33C151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5191-5254-4C0F-9BEC-A6E2DEA9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B5F8-64F5-446E-8E90-B87594D4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3FF2-6856-4438-8326-744BFBC1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9860-AFA1-40FC-9858-ECF930B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5008-1F8C-4BA5-900F-54661DB3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9354-37FF-4E14-AFCD-332C113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DF0-977A-4268-A5A1-BB01FDE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9386-4C37-46C8-B6D6-602FE36B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AB76-9870-4B82-8B56-512DF40D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CB4E-928D-4F83-B9B4-0E3376A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6B48-7300-4BAE-B905-2DF7573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D47D-2AB6-45BF-9236-2B54361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5B3E-166E-4689-AE42-572C98E9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893F-32CA-4DF6-90E2-95E4A210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2665-9BD6-42A3-A753-BF7013D8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6C5F-B0F5-4F2A-A4BC-7276EB59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9F63-DED0-439A-978B-1E33630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729-1EB8-42F9-9FE6-33624F9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108E-2ABB-4990-AABA-75F3C74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AA54-5693-4497-B475-999A1BB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4459-6C9E-4C1F-89B0-1B4B8A37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1820-7C0D-4F27-B800-AA69823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2732-52ED-48A6-9E20-8B622A7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3D5E-3CBB-41F9-99F6-0107B7E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7550-74B3-4D08-86ED-D9E76DD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FDA9-4AAE-45F2-9DCB-65475945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186C-F91C-4305-8384-E03C61A5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654-5C5E-4F07-9886-D9B4AEEB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973-8FD3-48D0-9B61-B57A86FA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AC0-28B7-49C6-AEBB-EA3F721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1B4-05EA-4BCA-91B7-CC135FD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366-C364-477F-A9FC-4A30039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1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E54-8185-49D6-887B-B246125510E6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48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2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A30-E6EA-4445-B047-E42CCB669479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95280" y="369720"/>
            <a:ext cx="826920" cy="648000"/>
          </a:xfrm>
          <a:prstGeom prst="rect">
            <a:avLst/>
          </a:prstGeom>
          <a:solidFill>
            <a:srgbClr val="693a77"/>
          </a:solidFill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96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100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962-E2BC-4F86-AE9C-0B1F6BD4BF2C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7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94920" y="6453000"/>
            <a:ext cx="47530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3AB8-EE98-4176-8068-66F19ADEF562}" type="slidenum">
              <a:rPr b="1" lang="fr-FR" sz="900" spc="-1" strike="noStrike">
                <a:solidFill>
                  <a:srgbClr val="693a7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52200"/>
            <a:ext cx="8064720" cy="1443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Stakeholders consultative Conference</a:t>
            </a:r>
            <a:br>
              <a:rPr sz="3000"/>
            </a:b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food security information network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ff"/>
                </a:solidFill>
                <a:latin typeface="Arial"/>
              </a:rPr>
              <a:t>What ressources for food security information systems?</a:t>
            </a: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051000" y="2387520"/>
            <a:ext cx="30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8-9 September 2011</a:t>
            </a:r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DA7-6A95-481F-BE9F-363F878A74BC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56944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7000"/>
          </a:bodyPr>
          <a:p>
            <a:pPr marL="236880" indent="-236880">
              <a:spcBef>
                <a:spcPts val="29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ew demands from our partners (publics or private)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ctions usually pushed by crisis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xternal demand (donors, international community) with information for triggering response and adapted to response tools (weak appropria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ultiplication of information systems/bulletin, no coordination/ complementar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adapted to weak data availability/qual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Sustainability problem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Financing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stitutional (independence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Donor side : 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 lot of information, limited response tools, need to prioritiz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Difficulties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C56-7E7A-49F7-B979-203A951792C5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36136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n expertise network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tackle new subjects and the role of IS (ex: over/malnutri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support regional information systems and networks (methodology, best practices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dvocacy for FSI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region and countries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donor commun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acilitate access to FS information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ternet portal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try to produce new information  (information is not neutral : which one to choose?) -&gt; keep diversity of information sources but need of tools to decrypt the diversity of the information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What could FSIN support 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Thank you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1. French support to Food security and role of AFD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5AED-99C7-48C0-84E6-B40F22D6CF1E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Few numbers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10 : 8.64 billion € with 1.61 billion for agriculture and food security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09 :  62% multilateral (excluding debt release and scholarship) more or less 4 billion €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1.7 billion € through European aid (EDF and other development programs)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78 million € for World Bank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00 million € for HIV aid fund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… </a:t>
            </a: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but food security not a high ranking priority : 37 million € for multilateral organisations for agriculture and food security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Although G20 gives priority to food secur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AFD : main operator of sectoral bilateral aid, including food security and agriculture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rench Development Ai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877-0DA4-4457-B344-41AB278736FA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5000"/>
          </a:bodyPr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public organisation under the supervision of 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inistry of foreign affairs, Ministry of finance, Ministry of oversee departments and regions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financial institution managed according to the bank regula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n increasing activity : +92% financing between 2007 and 2010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Different tools but importance of loans: grants represent only 7% of AFD financing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No direct implementation -&gt; only through partners and following an explicit demand supported by the Ministry of Finance or at high political level (sustainability).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mplementarity with multilateral donor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pecific expertise, raise awareness on an issue/initiative at international level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AFD: mandate, tools, strategy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7" name="Espace réservé du pied de page 2"/>
          <p:cNvSpPr/>
          <p:nvPr/>
        </p:nvSpPr>
        <p:spPr>
          <a:xfrm>
            <a:off x="401760" y="6361200"/>
            <a:ext cx="4752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35B-23BD-49A9-B3D9-CD8C4A4D9A80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9" name="Oval 66"/>
          <p:cNvSpPr/>
          <p:nvPr/>
        </p:nvSpPr>
        <p:spPr>
          <a:xfrm>
            <a:off x="1332000" y="1484280"/>
            <a:ext cx="187164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0" name="Oval 68"/>
          <p:cNvSpPr/>
          <p:nvPr/>
        </p:nvSpPr>
        <p:spPr>
          <a:xfrm>
            <a:off x="2411280" y="1916280"/>
            <a:ext cx="1584360" cy="72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24000" y="3933720"/>
            <a:ext cx="1800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276720" y="2852640"/>
            <a:ext cx="230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00720" y="2708280"/>
            <a:ext cx="7189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284720" y="5011560"/>
            <a:ext cx="129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125892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ood security within AF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16" name="Picture 13" descr=""/>
          <p:cNvPicPr/>
          <p:nvPr/>
        </p:nvPicPr>
        <p:blipFill>
          <a:blip r:embed="rId1"/>
          <a:stretch/>
        </p:blipFill>
        <p:spPr>
          <a:xfrm>
            <a:off x="138240" y="2481120"/>
            <a:ext cx="8724600" cy="36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46836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Less of half of AFD for food security (46% of mean 2000-2009) 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ntributing but not targeted directly on food security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9" name="Espace réservé du pied de page 2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CDB-DB80-4800-932C-C361DA674D39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989-0C51-4DED-99A8-114B9F59F4DD}" type="slidenum">
              <a:rPr b="0" lang="fr-FR" sz="14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inancial instruments for Food security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81080" y="1989000"/>
            <a:ext cx="8677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2. Support to information systems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E1C-3A5F-4656-90FF-B7017D3951AE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arket information systems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Better knowledge of new generation of MIS (new technologies), Impact evaluation of first and second generation MIS. 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pidemiologic surveillance systems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: Evaluation of economic and social impact of these system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Price volatility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Understanding the volatility factors, analysis of transmission mechanisms, analysis of prevention/response tools            - -&gt; G20 propositions (AMIS, Rapid response forum)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Knowledge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1FE-A1CC-473D-8BB4-B2DE083B75E7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8850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a77"/>
                </a:solidFill>
                <a:latin typeface="Arial Black"/>
              </a:rPr>
              <a:t>Targeted support</a:t>
            </a:r>
            <a:endParaRPr b="0" lang="en-US" sz="32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4200" y="1267920"/>
            <a:ext cx="8101080" cy="47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international organisation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FAO/EMPRES: locust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OFLU, OWOH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Avian Flu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To regional organisation: </a:t>
            </a: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upport to ECOWA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apping of food security risk in the region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Reinforcing IS :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Data : From price to trade flows, reinforcing nutritional surveillance, integrating household incomes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Analysis capac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national initiative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Livestock related information system (Ethiopia, Tunisia)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0:31Z</dcterms:created>
  <dc:creator>OLIVEV</dc:creator>
  <dc:description/>
  <dc:language>en-US</dc:language>
  <cp:lastModifiedBy>Marie-Cécile Thirion</cp:lastModifiedBy>
  <dcterms:modified xsi:type="dcterms:W3CDTF">2011-09-09T07:16:22Z</dcterms:modified>
  <cp:revision>342</cp:revision>
  <dc:subject/>
  <dc:title>Titre de la présentation sur deux ou trois lignes</dc:title>
</cp:coreProperties>
</file>